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B45-480C-4E6E-A9C2-50EBACB7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AFD-7F22-49AE-AE8F-52CE6B5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35B-DCC7-42A6-B105-C46B5488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070-6CBA-4BA8-95D4-D897AFE7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FF866-498B-42E3-A1E8-25D3E96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83D15-C9D4-4887-B3B6-1602BEE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23668-DC3A-4188-96E4-0976B90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6734A-23AF-49B9-8A58-F1579BB3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19F9E-77CA-4E23-85B1-2A2D1BE0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D1D5-DDC6-4130-B428-4E444C20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A9844-BBC7-4E32-9B98-F08A86C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D61-932E-463C-A2D9-E97FACA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8F591-9B9F-439B-963A-192C5D8A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CAB6-EB0A-47DE-9699-9DE30247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532D6-367D-4EA7-9673-B5CC191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33802-AE20-40BC-A8EA-E00DB44B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937CE-35FF-4AFD-89B1-2C5B015E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735AC-8326-46EC-8754-CC5F3C9C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9377-8E44-4CA0-A6E0-C2624AD0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4911-93EB-43BB-BC23-38C6A413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68F0-3907-4BF9-B523-1C747F53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96984-3329-4157-9F7D-4BCB725E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2F7-CA86-45FD-B30B-349B6E4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904AE-A12B-408F-94F0-75C37A73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460F6-2CE1-4EFC-9E05-D8616CD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7F16-33B7-4EB6-AE03-25B7E007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3810B-4C18-4700-9A71-1EEF00BC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CF1C-95BB-4400-AA95-806AB02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9FC0-C7AC-49E3-B5F6-3C5DC144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CD4F-DB03-4E85-91C7-41049AF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5759DE-7DBE-472E-9F52-AF3674B5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76AA7-044E-4C91-86EE-E4ED3B8D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D1E79-4473-4C38-8535-26D9F5C6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1D5-7055-48FE-895C-D2030A2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58C57-C496-4001-BC39-DE7DD00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8E602-C15E-46F2-A39B-F7BAC7A5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5D4E1-C409-4DE4-9DC4-D7DA7E5B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399F4-29ED-4A4F-88D2-D7179B30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0BDE6-78D6-467E-BF13-0A80E73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96FCD-475F-4510-8F0C-A591E010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0B8AC1-03FF-4593-A911-09BCE1F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1A2380-DFDA-409A-B1C1-72C65C74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AF853-7D36-4181-A054-B08FF50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2E-60E2-44A2-95CF-ACB0CCA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334-8B46-431B-B9D6-D09A6368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542-A5FF-43B2-AA45-A2F8663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455-17B0-4299-9699-D34E0A12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D31-04BE-46F3-B6DE-FB11D2DB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4D3C-A0FB-44BA-B143-374AA3AFA65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68F5-F813-47F0-A6E4-F97B08C85B3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8ACE-812B-4150-A0C4-4C7CA65C8FF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62D-F893-48FE-B37D-5BD599B96A1A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0"/>
            <a:ext cx="84582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69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堅固磐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望別無根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惟有救主流血公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除此以外虛空無憑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獨靠主耶穌聖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0"/>
            <a:ext cx="845820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有時黑雲遮沒我面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耶穌恩典永無改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大風巨浪我亦不怕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望如錨海底拋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77040"/>
            <a:ext cx="628020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曾流血立此新約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應許救我扶助軟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良朋密友雖都遠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靠救主安慰到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71920" y="1080"/>
            <a:ext cx="39844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末日聽見號筒聲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與主相遇永遠相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上救主雪白義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無瑕無疵同受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4-14T21:37:13Z</dcterms:modified>
  <cp:revision>55</cp:revision>
  <dc:subject/>
  <dc:title>Slide 1</dc:title>
</cp:coreProperties>
</file>